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A86-DE67-42F7-8ACB-CEBF821D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2E2-CA34-4974-8AA8-20FA74FB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C67-D4D4-490E-8541-CA889DBA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7CB-B092-4EE2-AFE4-178AAA11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6E28-0F47-4009-ACE7-B6AA1295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F786-D3EA-400A-A0EB-93A02366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87B3-5F58-48ED-8E4D-01BC300D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7A1B-7939-47BB-BF6E-71E0E762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D101-8D06-4392-AB69-E99D00BD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2B6B-456F-4421-A910-97049BAA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AE5F-2D06-46DA-AB69-33D7DFB3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F76-4753-4A99-AA6B-ABF9019B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1927-3B23-48E9-BC1E-6D95B1B1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3379-77CB-40F4-A1ED-06C1FAB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5251-1BF0-4554-B866-17671AB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13AE-5782-4C74-AD64-69EE0D35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8455-A016-4510-BC1A-1E365D0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05B9-5381-41D8-A402-B15C4CB9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8ED8-ACB4-4621-9E42-B0B8123F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01C6-18CD-414D-A518-E5C451F4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8A9B-9658-4A9B-8C18-D766F42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2A5F-F87E-49EC-9993-132ECD4E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945-35C5-4667-B7B3-0E10AA8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CE3C-B865-44BF-93F4-CFCE52D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322BC-B410-465D-A3B0-5D6E8C17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7A940-9D88-4176-A27B-A1DF77BA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4F48-ADAD-4027-99D5-C45C76F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8E208-0ACA-4A8D-906A-B663131E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0929-F7B2-4591-A8C1-79711AFC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357E-39C4-4EA9-9628-441A56E4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D17B-C772-4DEA-A2A6-4DA64A03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E64A7-E134-47AE-9D08-9DFF20F5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F014-93FA-4469-907E-E34E2C62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24E-DFFB-4788-BC41-A2E09AF0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E2B7-656E-41BE-AB40-BF0DBB4C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C3617-4D42-4B9A-95E4-9A57149B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80DB7-AF0B-454B-A557-25D55C8E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2A0F-9F33-4BB9-A292-DB45398C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3109F-CD05-40CF-8BB4-EC94979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6AEE5-C256-408A-8088-18477794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6CA1-5767-45D8-BFF1-9C2C23C5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F110-67C2-4CEC-A098-744E0623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944C-4EFF-41D3-8408-13B563D2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EB1-8846-488D-BA98-95DF64FC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087-417E-49D0-9394-B3FA4D39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8D5-C4A4-4BE5-B00D-0FE5855C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889-5FBA-4E9E-9927-10D47D8B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868-4787-41B2-B0AD-9051A29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5EBE-596B-4D3F-87F1-328BFB5B59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5EAA-7657-44C4-96B9-578F9B1129A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90E0-C052-4370-A360-C130F8EAFF9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82FD-E278-461E-B132-C051045BE18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80880" y="733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us Mruma, Gabriel Ndu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ephat Kionau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228600" y="7621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rmers’ perceptions 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postharvest 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able 8" descr=""/>
          <p:cNvPicPr/>
          <p:nvPr/>
        </p:nvPicPr>
        <p:blipFill>
          <a:blip r:embed="rId1"/>
          <a:stretch/>
        </p:blipFill>
        <p:spPr>
          <a:xfrm>
            <a:off x="225360" y="2305080"/>
            <a:ext cx="5492880" cy="4040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5867280" y="2362320"/>
            <a:ext cx="3276720" cy="16167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Diverse knowledge g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rmers’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reation and training of commodity storage special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loss control pract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2362320"/>
          <a:ext cx="5257800" cy="3817800"/>
        </p:xfrm>
        <a:graphic>
          <a:graphicData uri="http://schemas.openxmlformats.org/drawingml/2006/table">
            <a:tbl>
              <a:tblPr/>
              <a:tblGrid>
                <a:gridCol w="4114800"/>
                <a:gridCol w="114300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ol meas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ditional h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-processing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rtificial chemical control (Insecticides &amp; pesticides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dr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taining hygien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handling/pack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2"/>
          <p:cNvSpPr/>
          <p:nvPr/>
        </p:nvSpPr>
        <p:spPr>
          <a:xfrm>
            <a:off x="0" y="4572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562720" y="2362320"/>
            <a:ext cx="3581280" cy="27579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Extensive use of pesticides in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management training: Introduce improved methods for drying, shelling, storage, 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sure public health safety by investigating and providing a remedy to potential high pesticide residue in marketed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167616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44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3 lead farmers were trained in Kipelesa and Ngipa  villages of Kite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maize shelling practices aiming at reducing food loss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rmers spend on crop proces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drying technology (e.g. by using the collapsible dryer cas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I:\DCIM\Camera\2015-07-02 11.43.22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095880" y="3276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PERESA VILLAGE,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G:\DCIM\129___07\IMG_5076.JPG"/>
          <p:cNvPicPr/>
          <p:nvPr/>
        </p:nvPicPr>
        <p:blipFill>
          <a:blip r:embed="rId2"/>
          <a:stretch/>
        </p:blipFill>
        <p:spPr>
          <a:xfrm>
            <a:off x="607068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-360" y="16765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092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torage practices (e.g. use of hermetic storage bag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ctivities are going f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I:\DCIM\Camera\2015-07-02 11.16.20.jpg"/>
          <p:cNvPicPr/>
          <p:nvPr/>
        </p:nvPicPr>
        <p:blipFill>
          <a:blip r:embed="rId1"/>
          <a:stretch/>
        </p:blipFill>
        <p:spPr>
          <a:xfrm>
            <a:off x="6477120" y="352440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I:\DCIM\Camera\2015-07-02 12.01.02.jpg"/>
          <p:cNvPicPr/>
          <p:nvPr/>
        </p:nvPicPr>
        <p:blipFill>
          <a:blip r:embed="rId2"/>
          <a:stretch/>
        </p:blipFill>
        <p:spPr>
          <a:xfrm>
            <a:off x="6477120" y="76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ain 48 lead farmers i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trainers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four  villages of Kongwa and Mvom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intensification of maize fortification with micronutrient in areas where TUBOCHA was operating micronutrient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wareness of processors on proper fortification proced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raining of lead farmers on improved postharvest handling practices: shelling, drying and storag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public health safety of  cereals and legumes stored with pestic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120" y="170604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 expectation of farmers in return for the  information they offered; majority of the farmers were expecting food a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experienced prolonged dry season and late rainfall which are thought to cause crop failure, causing reduced need for storage technologies as the household food may run-out very quickl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 AND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management activities have just started because the harvest season for maize is June/Ju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harvest team will keep implementing the IR 6 to improve the livelihoods of the smallholder farming communities in the project areas through reduced food loss and consumption of nutrient-dens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 AND RECOMMEND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30280" y="2822400"/>
            <a:ext cx="7742160" cy="144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s://encrypted-tbn3.gstatic.com/images?q=tbn:ANd9GcTqGbQx8ihsnIQDjkt_WTAIpj7IkuwUHV3fvUytXDUfWJ30NIiHxw"/>
          <p:cNvPicPr/>
          <p:nvPr/>
        </p:nvPicPr>
        <p:blipFill>
          <a:blip r:embed="rId2"/>
          <a:stretch/>
        </p:blipFill>
        <p:spPr>
          <a:xfrm>
            <a:off x="228600" y="685800"/>
            <a:ext cx="48769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encrypted-tbn0.gstatic.com/images?q=tbn:ANd9GcQFfRd58MYaM_0rAWLbDpwffKO1Bk9-EI7uogj0YIV6ag5K2Xx6"/>
          <p:cNvPicPr/>
          <p:nvPr/>
        </p:nvPicPr>
        <p:blipFill>
          <a:blip r:embed="rId3"/>
          <a:stretch/>
        </p:blipFill>
        <p:spPr>
          <a:xfrm>
            <a:off x="7238880" y="762120"/>
            <a:ext cx="1352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560" y="11430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BJECTIVES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ARTNER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RESULT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ACHIE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AND CONSTRAINTS FACE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EST ACTIVITIES AND IMPRO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CLUSION AND RECOMMENDATION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457200" y="533520"/>
            <a:ext cx="43434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:\DCIM\129___07\IMG_5073.JPG"/>
          <p:cNvPicPr/>
          <p:nvPr/>
        </p:nvPicPr>
        <p:blipFill>
          <a:blip r:embed="rId1"/>
          <a:stretch/>
        </p:blipFill>
        <p:spPr>
          <a:xfrm>
            <a:off x="4775040" y="11430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11426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food loss is a challenge that contributes to food insecurity and reduces the income of millions of smallholder far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grains and legumes ranged fro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 – 40%  at the time of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% during shell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5 – 25% or up to 90% during stor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 vegetables ≥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or handling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nadequate storage conditions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amage during transpor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523520"/>
            <a:ext cx="4648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any simple tools and approaches for reducing the losses exis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Uptake and adoption by smallholder farmers remain limited due to lack of awareness and skills to use th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G:\DCIM\129___07\IMG_5072.JPG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280" y="1599840"/>
            <a:ext cx="83059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and provide improved innovation and technologies that improve harvesting, processing and storage of cereals and legumes to increase food security and safe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post harvest management technologies to reduce losses and bring quality up to market standar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jectiv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1447920"/>
          <a:ext cx="8686800" cy="4494240"/>
        </p:xfrm>
        <a:graphic>
          <a:graphicData uri="http://schemas.openxmlformats.org/drawingml/2006/table">
            <a:tbl>
              <a:tblPr/>
              <a:tblGrid>
                <a:gridCol w="533520"/>
                <a:gridCol w="2819160"/>
                <a:gridCol w="609840"/>
                <a:gridCol w="1218960"/>
                <a:gridCol w="914400"/>
                <a:gridCol w="914400"/>
                <a:gridCol w="914400"/>
                <a:gridCol w="762120"/>
              </a:tblGrid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838080" y="609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RGET BENEFITI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N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676160"/>
            <a:ext cx="83055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AFA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UBOCH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enter for Counseling, Nutrition and Health Care (COUNSENUTH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ueFoo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ee Pee (T) Ltd – PICS bag manufactu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Users\Simon Boniface\Desktop\For Ibrahim\Map showing the villages.png"/>
          <p:cNvPicPr/>
          <p:nvPr/>
        </p:nvPicPr>
        <p:blipFill>
          <a:blip r:embed="rId1"/>
          <a:stretch/>
        </p:blipFill>
        <p:spPr>
          <a:xfrm>
            <a:off x="457200" y="1981080"/>
            <a:ext cx="6324480" cy="46198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2" name="Title 1"/>
          <p:cNvSpPr/>
          <p:nvPr/>
        </p:nvSpPr>
        <p:spPr>
          <a:xfrm>
            <a:off x="6858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icipatory diagnosis of the main postharvest problems that should be addressed by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858000" y="1981080"/>
            <a:ext cx="2057400" cy="10069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collected from 255 farmers in 15 vill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60948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cent Loss at different postharvest handling s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40" y="1828800"/>
          <a:ext cx="6934320" cy="262908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533520"/>
                <a:gridCol w="685800"/>
                <a:gridCol w="609480"/>
                <a:gridCol w="685800"/>
                <a:gridCol w="654120"/>
                <a:gridCol w="588960"/>
                <a:gridCol w="738360"/>
              </a:tblGrid>
              <a:tr h="105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loss (insects, rodents &amp; fung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eon p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flo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-si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. nu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rgh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086600" y="1828800"/>
            <a:ext cx="1981080" cy="18442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9-20% loss of foo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loss prevention technologi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0:24:56Z</dcterms:created>
  <dc:creator>Kinyoro Ibrahim</dc:creator>
  <dc:description/>
  <dc:language>en-US</dc:language>
  <cp:lastModifiedBy>Odhong, Jonathan (IITA)</cp:lastModifiedBy>
  <dcterms:modified xsi:type="dcterms:W3CDTF">2015-07-10T14:54:12Z</dcterms:modified>
  <cp:revision>60</cp:revision>
  <dc:subject/>
  <dc:title>Slide 1</dc:title>
</cp:coreProperties>
</file>